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475-6DF1-4695-8498-7ACD94D3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3C1-931E-43D6-94E3-85F63B9A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FF4-3F46-4D93-8A9B-6CB5596E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A6C-A66A-403D-8A68-2BAA7E2D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2AF6-662C-42EE-8BAF-33107461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BEC6-FDAA-4C32-8D8D-C8424701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5BF3-E9C0-4AEE-992B-3149ADB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BD8C-342E-45F4-BA85-49ECD430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72CB-E0A0-4B68-9D8C-991879D9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237D-21F4-4352-B5C6-A97D89D3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2DCD-D265-4E66-AA37-5D9296B8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89D-473A-4EAA-BEEA-99C15D88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6C91-4391-4C15-BACC-61CFFAE7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6400-E97B-4C3F-9C97-2DA497B3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FB4-7ED5-4F37-8A4F-D04245BF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C547-01BF-48AD-B441-A25117DA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B43E-81CF-43A3-B173-43DCC256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E9E-A103-404C-BE8C-6584D00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324-E49F-4747-99C8-35EE58A0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5F0-4FC4-4081-BFE3-67C305C5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229-4C38-4B83-B474-27101B81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88B-0793-446C-9EB2-FAA39EC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BA4-802C-4FAD-8C00-091F654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CBF-497F-46C3-B1E9-A11EFB1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DA5B4-DB57-4354-99F9-C533FCF26917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11320" y="7873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437840" y="27432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0FB54-1CA6-4D8C-AAB9-D9370B56DF9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Τίτλος 1" descr=""/>
          <p:cNvPicPr/>
          <p:nvPr/>
        </p:nvPicPr>
        <p:blipFill>
          <a:blip r:embed="rId1"/>
          <a:stretch/>
        </p:blipFill>
        <p:spPr>
          <a:xfrm>
            <a:off x="2212920" y="4462560"/>
            <a:ext cx="942516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Υπότιτλος 2" descr=""/>
          <p:cNvPicPr/>
          <p:nvPr/>
        </p:nvPicPr>
        <p:blipFill>
          <a:blip r:embed="rId2"/>
          <a:stretch/>
        </p:blipFill>
        <p:spPr>
          <a:xfrm>
            <a:off x="2206800" y="3200400"/>
            <a:ext cx="91440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371520" y="158760"/>
            <a:ext cx="10985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111488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8200" y="128520"/>
            <a:ext cx="1108872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76040" y="66600"/>
            <a:ext cx="111808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2080" y="115920"/>
            <a:ext cx="110948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85680"/>
            <a:ext cx="112172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Τίτλος 1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7" name="Θέση περιεχομένου 2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9240" y="133200"/>
            <a:ext cx="111376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92160"/>
            <a:ext cx="11217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82520" y="158760"/>
            <a:ext cx="11174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74680" y="158760"/>
            <a:ext cx="110822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9" name="5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9:29:30Z</dcterms:created>
  <dc:creator>Βιβη</dc:creator>
  <dc:description/>
  <dc:language>en-US</dc:language>
  <cp:lastModifiedBy>Admin</cp:lastModifiedBy>
  <dcterms:modified xsi:type="dcterms:W3CDTF">2025-10-16T09:40:52Z</dcterms:modified>
  <cp:revision>37</cp:revision>
  <dc:subject/>
  <dc:title>Παρουσίαση του PowerPoint</dc:title>
</cp:coreProperties>
</file>